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Chapter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</p:sldLst>
    </p:custShow>
    <p:custShow name="Transparencies" id="1">
      <p:sldLst>
        <p:sld r:id="rId9"/>
        <p:sld r:id="rId11"/>
        <p:sld r:id="rId14"/>
        <p:sld r:id="rId25"/>
      </p:sldLst>
    </p:custShow>
    <p:custShow name="Bellringers" id="2">
      <p:sldLst>
        <p:sld r:id="rId5"/>
        <p:sld r:id="rId16"/>
      </p:sldLst>
    </p:custShow>
    <p:custShow name="Section 1" id="3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</p:sldLst>
    </p:custShow>
    <p:custShow name="Section 2" id="4">
      <p:sldLst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5334120" y="663876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6350040" y="6243480"/>
            <a:ext cx="1792080" cy="3938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6483240" y="62737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4"/>
          <a:stretch/>
        </p:blipFill>
        <p:spPr>
          <a:xfrm>
            <a:off x="4444920" y="6243480"/>
            <a:ext cx="1792440" cy="3938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4597560" y="62737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4495680" y="628164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/>
          <p:cNvSpPr/>
          <p:nvPr/>
        </p:nvSpPr>
        <p:spPr>
          <a:xfrm>
            <a:off x="6386400" y="629928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34120" y="663876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6350040" y="6243480"/>
            <a:ext cx="179208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6483240" y="62737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4"/>
          <a:stretch/>
        </p:blipFill>
        <p:spPr>
          <a:xfrm>
            <a:off x="4444920" y="6243480"/>
            <a:ext cx="1792440" cy="3938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4597560" y="62737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4495680" y="628164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6386400" y="629928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1066680" y="2209680"/>
            <a:ext cx="6782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ting It All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ains and Kingd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5"/>
          <p:cNvSpPr/>
          <p:nvPr/>
        </p:nvSpPr>
        <p:spPr>
          <a:xfrm>
            <a:off x="1143000" y="1219320"/>
            <a:ext cx="708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7"/>
          <p:cNvSpPr/>
          <p:nvPr/>
        </p:nvSpPr>
        <p:spPr>
          <a:xfrm>
            <a:off x="968400" y="2209680"/>
            <a:ext cx="4267080" cy="304920"/>
          </a:xfrm>
          <a:custGeom>
            <a:avLst/>
            <a:gdLst>
              <a:gd name="textAreaLeft" fmla="*/ 19440 w 4267080"/>
              <a:gd name="textAreaRight" fmla="*/ 4247640 w 4267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01942" h="21600">
                <a:moveTo>
                  <a:pt x="0" y="0"/>
                </a:moveTo>
                <a:lnTo>
                  <a:pt x="301942" y="0"/>
                </a:lnTo>
                <a:lnTo>
                  <a:pt x="301942" y="21600"/>
                </a:lnTo>
                <a:lnTo>
                  <a:pt x="0" y="21600"/>
                </a:lnTo>
                <a:close/>
              </a:path>
              <a:path fill="lightenLess" w="301942" h="21600">
                <a:moveTo>
                  <a:pt x="0" y="0"/>
                </a:moveTo>
                <a:lnTo>
                  <a:pt x="301942" y="0"/>
                </a:lnTo>
                <a:lnTo>
                  <a:pt x="300542" y="1400"/>
                </a:lnTo>
                <a:lnTo>
                  <a:pt x="1400" y="1400"/>
                </a:lnTo>
                <a:close/>
              </a:path>
              <a:path fill="darken" w="301942" h="21600">
                <a:moveTo>
                  <a:pt x="301942" y="0"/>
                </a:moveTo>
                <a:lnTo>
                  <a:pt x="301942" y="21600"/>
                </a:lnTo>
                <a:lnTo>
                  <a:pt x="300542" y="20200"/>
                </a:lnTo>
                <a:lnTo>
                  <a:pt x="300542" y="1400"/>
                </a:lnTo>
                <a:close/>
              </a:path>
              <a:path fill="darkenLess" w="301942" h="21600">
                <a:moveTo>
                  <a:pt x="30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542" y="20200"/>
                </a:lnTo>
                <a:close/>
              </a:path>
              <a:path fill="lighten" w="30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8"/>
          <p:cNvSpPr/>
          <p:nvPr/>
        </p:nvSpPr>
        <p:spPr>
          <a:xfrm>
            <a:off x="1082520" y="2827440"/>
            <a:ext cx="4038840" cy="457200"/>
          </a:xfrm>
          <a:custGeom>
            <a:avLst/>
            <a:gdLst>
              <a:gd name="textAreaLeft" fmla="*/ 29520 w 4038840"/>
              <a:gd name="textAreaRight" fmla="*/ 4009320 w 4038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90678" h="21600">
                <a:moveTo>
                  <a:pt x="0" y="0"/>
                </a:moveTo>
                <a:lnTo>
                  <a:pt x="190678" y="0"/>
                </a:lnTo>
                <a:lnTo>
                  <a:pt x="190678" y="21600"/>
                </a:lnTo>
                <a:lnTo>
                  <a:pt x="0" y="21600"/>
                </a:lnTo>
                <a:close/>
              </a:path>
              <a:path fill="lightenLess" w="190678" h="21600">
                <a:moveTo>
                  <a:pt x="0" y="0"/>
                </a:moveTo>
                <a:lnTo>
                  <a:pt x="190678" y="0"/>
                </a:lnTo>
                <a:lnTo>
                  <a:pt x="189278" y="1400"/>
                </a:lnTo>
                <a:lnTo>
                  <a:pt x="1400" y="1400"/>
                </a:lnTo>
                <a:close/>
              </a:path>
              <a:path fill="darken" w="190678" h="21600">
                <a:moveTo>
                  <a:pt x="190678" y="0"/>
                </a:moveTo>
                <a:lnTo>
                  <a:pt x="190678" y="21600"/>
                </a:lnTo>
                <a:lnTo>
                  <a:pt x="189278" y="20200"/>
                </a:lnTo>
                <a:lnTo>
                  <a:pt x="189278" y="1400"/>
                </a:lnTo>
                <a:close/>
              </a:path>
              <a:path fill="darkenLess" w="190678" h="21600">
                <a:moveTo>
                  <a:pt x="1906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9278" y="20200"/>
                </a:lnTo>
                <a:close/>
              </a:path>
              <a:path fill="lighten" w="1906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3429000" y="1522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rting It All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ichotomous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1008000" y="1708200"/>
            <a:ext cx="718524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hat Is a Dichotomous Key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dichotomous key is a 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wo-Part Na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working through the statements in a dichotomous key in order, a person can eventually identify an unknown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9"/>
          <p:cNvSpPr/>
          <p:nvPr/>
        </p:nvSpPr>
        <p:spPr>
          <a:xfrm>
            <a:off x="3429000" y="152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rting It All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6311880" cy="49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rting It All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1008000" y="123660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 Grow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1008000" y="1878120"/>
            <a:ext cx="718524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ill Discoveries to Mak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ople are still discovering and classify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scovery Unique Organis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ometimes new organisms are found that are so different from other known organisms that new classes, phyla, and so on must be for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0"/>
          <p:cNvSpPr/>
          <p:nvPr/>
        </p:nvSpPr>
        <p:spPr>
          <a:xfrm>
            <a:off x="3429000" y="1522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mains and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762120" y="1219320"/>
            <a:ext cx="7705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ellr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762120" y="2209680"/>
            <a:ext cx="79246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ist seven musical artists, bands, or acts. Categorize the names on your list by style of music. Describe in your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science jour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categories you chose and explain which bands might fit into more than one categ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2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1120680" y="2362320"/>
            <a:ext cx="741384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classification developed as greater numbers of organisms became kn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three dom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ur kingdoms in the domain Eukar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824040" y="1189080"/>
            <a:ext cx="58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3429000" y="1522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mains and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2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1008000" y="1708200"/>
            <a:ext cx="71852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hat Is Used to Classify Organism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ganisms are classified by their character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dding New Classification Categor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scientists continue to learn about living things, they add classification categories that account for the characteristics of different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3429000" y="1522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mains and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2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Two Kingdoms of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1008000" y="1708200"/>
            <a:ext cx="74502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Domain Archa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chaea are one of two kinds of prokaryotes.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karyo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single-celled organisms that do not have a nucleus.  Most are known to live in extreme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Domain Bact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acteria are another kind of prokaryote.  Bacteria can be found in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3429000" y="1522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mains and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2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Domain Eukar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1008000" y="1708200"/>
            <a:ext cx="718524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Kingdom Protis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day members of the kingdo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is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mmonly call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tis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re single-celled or simple multicelluar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ista contains many kinds of organisms, including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3429000" y="1522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mains and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2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008000" y="1708200"/>
            <a:ext cx="7185240" cy="17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Kingdom Fung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lds and mushrooms are examples of the complex, multicelluar members of the kingdom Fung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gi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3429000" y="1522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mains and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8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Domain Eukarya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2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Kingdom Plant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1008000" y="1708200"/>
            <a:ext cx="71852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la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kingdom Plantae consists of organisms that are eukaryotic, have cell walls, and make food through photosynthe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amples of Planta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quoia trees, roses, grasses, ferns, and more are all examples of members of the kingdom Plant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3429000" y="1522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mains and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8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429000" y="1522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rting It All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762120" y="1219320"/>
            <a:ext cx="7705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ellr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762120" y="2209680"/>
            <a:ext cx="7924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ink about the different ways humans classify things. In your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science journal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ist at least five things that humans class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2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Kingdom Anim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1008000" y="1708200"/>
            <a:ext cx="71852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im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kingdom Animalia contains complex, multicellular organisms that don’t have cell walls, are usually able to move around, and have specialized sense org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amples of Animal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ts, beetles, lizards, fish, birds, apes, elephants, and more are all examples of members of the kingdom Anima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imple Anima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ost animals are able to move, but sponges, a simple animal, cannot m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429000" y="1522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mains and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"/>
          <p:cNvSpPr/>
          <p:nvPr/>
        </p:nvSpPr>
        <p:spPr>
          <a:xfrm>
            <a:off x="3429000" y="1522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62120" y="990720"/>
            <a:ext cx="7705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oncept 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762120" y="1676520"/>
            <a:ext cx="7705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se the terms below to complete the concept map on the next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2895480"/>
          <a:ext cx="7924680" cy="2511720"/>
        </p:xfrm>
        <a:graphic>
          <a:graphicData uri="http://schemas.openxmlformats.org/drawingml/2006/table">
            <a:tbl>
              <a:tblPr/>
              <a:tblGrid>
                <a:gridCol w="3963960"/>
                <a:gridCol w="396072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kingd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e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lassif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ami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cientific 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or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axono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hyl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4" descr=""/>
          <p:cNvPicPr/>
          <p:nvPr/>
        </p:nvPicPr>
        <p:blipFill>
          <a:blip r:embed="rId2"/>
          <a:stretch/>
        </p:blipFill>
        <p:spPr>
          <a:xfrm>
            <a:off x="2502000" y="1066680"/>
            <a:ext cx="4073400" cy="50292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5"/>
          <p:cNvSpPr/>
          <p:nvPr/>
        </p:nvSpPr>
        <p:spPr>
          <a:xfrm>
            <a:off x="3429000" y="152280"/>
            <a:ext cx="46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3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rting It All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1120680" y="2362320"/>
            <a:ext cx="741384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y and how organisms are classif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eight levels of classif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cientific n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dichotomous keys help in identify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4"/>
          <p:cNvSpPr/>
          <p:nvPr/>
        </p:nvSpPr>
        <p:spPr>
          <a:xfrm>
            <a:off x="824040" y="1189080"/>
            <a:ext cx="58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rting It All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1008000" y="134136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hy Classif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1008000" y="1982880"/>
            <a:ext cx="71852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swering Ques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classification of living things makes it easier for biologist to answer many important question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many known species 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at are the defining characteristics of eac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hat are the relationships between the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rting It All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762120" y="12445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ow do Scientists Classify Organis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1055520" y="1930320"/>
            <a:ext cx="7045560" cy="20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lassification To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ranching Diagram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 a branching diagram, several characteristics are listed along the line that points to the right. Each characteristic is shared by the animals to the right of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9"/>
          <p:cNvSpPr/>
          <p:nvPr/>
        </p:nvSpPr>
        <p:spPr>
          <a:xfrm>
            <a:off x="3429000" y="152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rting It All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4" descr=""/>
          <p:cNvPicPr/>
          <p:nvPr/>
        </p:nvPicPr>
        <p:blipFill>
          <a:blip r:embed="rId2"/>
          <a:stretch/>
        </p:blipFill>
        <p:spPr>
          <a:xfrm>
            <a:off x="631800" y="1654200"/>
            <a:ext cx="7924680" cy="37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rting It All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evels of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1008000" y="1708200"/>
            <a:ext cx="718524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ingdoms and Beyo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eight levels of classification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9"/>
          <p:cNvSpPr/>
          <p:nvPr/>
        </p:nvSpPr>
        <p:spPr>
          <a:xfrm>
            <a:off x="3429000" y="1522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rting It All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7924680" cy="28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3429000" y="152280"/>
            <a:ext cx="462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rting It All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1008000" y="1066680"/>
            <a:ext cx="767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cientific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1008000" y="1708200"/>
            <a:ext cx="7185240" cy="20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ne Species, One Na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scientific name is always the same for a specific kind of organism no matter how many common names there might 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ffcc00"/>
              </a:buClr>
              <a:buFont typeface="Times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wo-Part Na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7:19:03Z</dcterms:created>
  <dc:creator>Karl Pallmeyer</dc:creator>
  <dc:description/>
  <dc:language>en-US</dc:language>
  <cp:lastModifiedBy>trocksund</cp:lastModifiedBy>
  <cp:lastPrinted>2004-02-20T14:12:55Z</cp:lastPrinted>
  <dcterms:modified xsi:type="dcterms:W3CDTF">2013-11-14T17:16:59Z</dcterms:modified>
  <cp:revision>159</cp:revision>
  <dc:subject/>
  <dc:title>PowerPoint Presentation</dc:title>
</cp:coreProperties>
</file>